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8CA-0134-483C-A4EA-E7DBAD8E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12A-D664-4F43-B35B-AE9A2D32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B2A-0AF6-463B-A5D1-4717E194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B83-6E1B-416E-8479-47045685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6BC8-6243-47C2-B598-8C7DB306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F376-3A27-4314-9C96-7FD4305D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CAF2-C84F-471E-800A-1720BE99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F837-8378-43FC-99C5-0EB12D43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21E7-3BEE-45B2-A432-9B566614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2FAE-A6B9-4A44-B163-80057A27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817C-7F32-4C00-98ED-071D01B2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663-4248-49C0-8016-C027F219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8C0C-C0ED-4EDF-9DC5-13F269BA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FC2F-9BA2-4B0F-B13A-7CFEEBA2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BD1E-FA00-468F-8582-2EA793D7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50D0-3596-44AB-8FA8-07EADCA9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113F-F677-472D-B2D9-B5EA918D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C0E-C1D5-484D-84EA-B183B9BE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305-D8D0-412B-B0D5-E43774C8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8C06-FE40-453C-9C5E-FD743AF8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6AC-3D4C-472D-813D-E79BDD45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4D6-34DE-4E4C-A4E4-AA417638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B03-A1B3-46DC-AC4C-9258F27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79E-B8F8-4B4B-A605-6BE92BF2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5A0F4-50B0-4F1B-B648-F6189C389D1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l-G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D5136-86AA-41E5-BF50-E449AB0B0474}" type="slidenum">
              <a:rPr b="0" lang="el-G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CINDERELL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9640" y="1753920"/>
            <a:ext cx="792000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inderella is on stage with her two step si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AR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Once upon a time, there was a young woman named Cinderella who lived with her two stepsisters named   1)Krista         and        2)J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They were mean to Cinderella and made her   3)stud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Cinderella pantomimes the chore while her stepsisters laugh at her.   Then her stepmother comes on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ARRATOR (CON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When Cinderella was done with that chore, her    4)th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tepmother made her         5cle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Stepmother acts in a way that fits the adjective in #4 and Cinderella pantomimes the new chore.   A prince appears on s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NARRATOR (CONT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ffff"/>
                </a:solidFill>
                <a:latin typeface="Times New Roman"/>
              </a:rPr>
              <a:t>One day the Prince announced he was having a  6)pijama 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31640" y="0"/>
            <a:ext cx="9576000" cy="78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PRI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I'm having a 6)pijama par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Prince exits. Cinderella and her stepsisters are exci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NAR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Everyone wanted to go, even Cinderella. But her stepmother had one more chore for h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STEPM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You can go if you clean all the 7)mon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Stepsisters laugh and leave with stepmother. Cinderella pantomimes clean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NARRATOR: Cinderella tried cleaning them all but it was taking forever because there were so many. There were almost 8)5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Cinderella cleans faster but she is a getting tired and sad and finally falls down. She is so tired, she can't go on and c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NARRATOR 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Suddenly a magical 9)dancer appea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 comes on stage and Cinderella is surprised to se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: Cinderella. I am here to help you go to the party. Cinderella is exci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: First, I will turn 10) spoon into a d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 does this and Cinderella pretends to put on the d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 Then I will turn 11)salad into a carri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 pretends to do this and Cinderella pretends to get into this carri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1600" spc="-1" strike="noStrike">
                <a:solidFill>
                  <a:srgbClr val="ccffff"/>
                </a:solidFill>
                <a:latin typeface="Arial"/>
              </a:rPr>
              <a:t>MAGICAL PERSON (CONT.</a:t>
            </a:r>
            <a:r>
              <a:rPr b="0" lang="el-GR" sz="10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92000" y="184320"/>
            <a:ext cx="9061560" cy="75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Finally I will get some 12)l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Actors come in acting like these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MAGICAL PERSON (CONT.) ...and turn them into ho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Actors who were the animals now act like ho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: Then Cinderella was given slippers made of 13)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Cinderella puts these shoes on and does a little dance in them (the dance will be easy or hide depending what they are made o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MAGICAL PERSON : Have fun at the party. But remember the spell ends at 14)12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Cinderella gets in carriage and rides behind actors being horses and they go in circles around the stage and magical person exits. Actors enter as party gu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: Cinderella arrived at the 6) pijama party and everyone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15) d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74680" y="-55440"/>
            <a:ext cx="8212320" cy="80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Party guests pretend like they are doing 15. One guest becomes the Pri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 (CONT.) Then the prince saw Cinderella and said...16) l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The Prince and Cinderella had a wonderful time. But then the clock struck 14) 12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Cinderella freaks out and runs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PRINCE Wait you left your 13) wood Slip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: The next day the prince went looking for Cinderella. He couldn't find her because her stepmother had locked her in the 17) kit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During the narrator above, the Prince is searching around and the Stepmother locks up Cinder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 : But Cinderella's little friend, a talking 18) p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ANIMAL 18 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NARRATOR: saw her trapped and guided the Prince to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400" spc="-1" strike="noStrike">
                <a:solidFill>
                  <a:srgbClr val="ccffff"/>
                </a:solidFill>
                <a:latin typeface="Arial"/>
              </a:rPr>
              <a:t>ANIMAL 18 This way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2360" y="1228680"/>
            <a:ext cx="49878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ccffff"/>
                </a:solidFill>
                <a:latin typeface="Arial"/>
              </a:rPr>
              <a:t>Animal leads Prince to Cinderella. The Prince tries the slipper on Cinderella and it 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ccffff"/>
                </a:solidFill>
                <a:latin typeface="Arial"/>
              </a:rPr>
              <a:t>NARRATOR: The Prince tries the 13) wood slipper on Cinderella and it is a perfect f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ccffff"/>
                </a:solidFill>
                <a:latin typeface="Arial"/>
              </a:rPr>
              <a:t>ALL: And they all lived happily ever af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cc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CINDERELLA'S  PHO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6360" y="1368360"/>
            <a:ext cx="4464000" cy="309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40360" y="1368360"/>
            <a:ext cx="4994280" cy="3095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482920" y="4464000"/>
            <a:ext cx="5365800" cy="3084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#Vaso Bexi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#Anna Maria Papanikolaou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3333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Alexandra Amoiridu X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09:15:48Z</dcterms:created>
  <dc:creator/>
  <dc:description/>
  <dc:language>en-US</dc:language>
  <cp:lastModifiedBy/>
  <dcterms:modified xsi:type="dcterms:W3CDTF">2016-02-09T09:34:08Z</dcterms:modified>
  <cp:revision>1</cp:revision>
  <dc:subject/>
  <dc:title/>
</cp:coreProperties>
</file>